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056-2581-4D6D-A834-2D0881E7A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706-17C1-4725-B2C1-FAF8EC42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436-63EA-4421-8DA7-4FBD31FA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AA5-E090-4869-A5E9-41FC40C3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633-0AD7-4BE5-AE09-9C7DEDDA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904-4F31-4882-A054-EFDCFF4A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093-38B1-4FAC-A083-3D97E1F8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E41-F953-43EB-9A5F-4E72E88A1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CA2-B7CC-4719-9605-9A0624EE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083A-BB5A-4B35-B683-EA3B9656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2A2-B060-4BC7-BF6A-10EACC71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EEF-EBEF-4B2A-B543-69AD8BFC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853B-6D03-4FD7-870F-7996AFC73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7.xml"/><Relationship Id="rId4" Type="http://schemas.openxmlformats.org/officeDocument/2006/relationships/slide" Target="slide24.xml"/><Relationship Id="rId5" Type="http://schemas.openxmlformats.org/officeDocument/2006/relationships/slide" Target="slide32.xml"/><Relationship Id="rId6" Type="http://schemas.openxmlformats.org/officeDocument/2006/relationships/image" Target="../media/image2.gif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" Target="slide15.xml"/><Relationship Id="rId16" Type="http://schemas.openxmlformats.org/officeDocument/2006/relationships/slide" Target="slide31.xml"/><Relationship Id="rId1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image" Target="../media/image3.gif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tmp/home/.config/libreoffice/4/user/gallery/bomb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gif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4.gi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file:///tmp/home/.config/libreoffice/4/user/gallery/breeze.wav" TargetMode="External"/><Relationship Id="rId3" Type="http://schemas.openxmlformats.org/officeDocument/2006/relationships/hyperlink" Target="file:///tmp/home/.config/libreoffice/4/user/gallery/breeze.wav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file:///tmp/home/.config/libreoffice/4/user/gallery/bomb.wav" TargetMode="External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bomb.wav" TargetMode="External"/><Relationship Id="rId6" Type="http://schemas.openxmlformats.org/officeDocument/2006/relationships/hyperlink" Target="file:///tmp/home/.config/libreoffice/4/user/gallery/bomb.wav" TargetMode="External"/><Relationship Id="rId7" Type="http://schemas.openxmlformats.org/officeDocument/2006/relationships/hyperlink" Target="file:///tmp/home/.config/libreoffice/4/user/gallery/bomb.wav" TargetMode="External"/><Relationship Id="rId8" Type="http://schemas.openxmlformats.org/officeDocument/2006/relationships/hyperlink" Target="file:///tmp/home/.config/libreoffice/4/user/gallery/bomb.wav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0066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ff00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7" action="ppaction://hlinksldjump"/>
          </p:cNvPr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8" action="ppaction://hlinksldjump"/>
          </p:cNvPr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9" action="ppaction://hlinksldjump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10" action="ppaction://hlinksldjump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1" action="ppaction://hlinksldjump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3" action="ppaction://hlinksldjump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Alege o parte de vorbire din propoziţia dată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4" action="ppaction://hlinksldjump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5" action="ppaction://hlinksldjump"/>
          </p:cNvPr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6" action="ppaction://hlinksldjump"/>
          </p:cNvPr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5257800"/>
            <a:ext cx="1905120" cy="1066680"/>
          </a:xfrm>
          <a:custGeom>
            <a:avLst/>
            <a:gdLst>
              <a:gd name="textAreaLeft" fmla="*/ 69120 w 1905120"/>
              <a:gd name="textAreaRight" fmla="*/ 1836000 w 19051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8572" h="21600">
                <a:moveTo>
                  <a:pt x="0" y="0"/>
                </a:moveTo>
                <a:lnTo>
                  <a:pt x="38572" y="0"/>
                </a:lnTo>
                <a:lnTo>
                  <a:pt x="38572" y="21600"/>
                </a:lnTo>
                <a:lnTo>
                  <a:pt x="0" y="21600"/>
                </a:lnTo>
                <a:close/>
              </a:path>
              <a:path fill="lightenLess" w="38572" h="21600">
                <a:moveTo>
                  <a:pt x="0" y="0"/>
                </a:moveTo>
                <a:lnTo>
                  <a:pt x="38572" y="0"/>
                </a:lnTo>
                <a:lnTo>
                  <a:pt x="37173" y="1400"/>
                </a:lnTo>
                <a:lnTo>
                  <a:pt x="1400" y="1400"/>
                </a:lnTo>
                <a:close/>
              </a:path>
              <a:path fill="darken" w="38572" h="21600">
                <a:moveTo>
                  <a:pt x="38572" y="0"/>
                </a:moveTo>
                <a:lnTo>
                  <a:pt x="38572" y="21600"/>
                </a:lnTo>
                <a:lnTo>
                  <a:pt x="37173" y="20200"/>
                </a:lnTo>
                <a:lnTo>
                  <a:pt x="37173" y="1400"/>
                </a:lnTo>
                <a:close/>
              </a:path>
              <a:path fill="darkenLess" w="38572" h="21600">
                <a:moveTo>
                  <a:pt x="38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3" y="20200"/>
                </a:lnTo>
                <a:close/>
              </a:path>
              <a:path fill="lighten" w="38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Arial"/>
              </a:rPr>
              <a:t>Analiza părţ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000099"/>
                </a:solidFill>
                <a:latin typeface="Arial"/>
              </a:rPr>
              <a:t>de vorbire d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99"/>
                </a:solidFill>
                <a:latin typeface="Arial"/>
              </a:rPr>
              <a:t>propoziţ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5943600"/>
            <a:ext cx="0" cy="2286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58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albastre = adjec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048120"/>
            <a:ext cx="121932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lastslide"/>
          </p:cNvPr>
          <p:cNvSpPr/>
          <p:nvPr/>
        </p:nvSpPr>
        <p:spPr>
          <a:xfrm>
            <a:off x="6858000" y="2666880"/>
            <a:ext cx="16002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3276720"/>
            <a:ext cx="160020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724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0" y="52578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57913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71800" y="586728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53341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4648320"/>
            <a:ext cx="3200400" cy="533160"/>
          </a:xfrm>
          <a:custGeom>
            <a:avLst/>
            <a:gdLst>
              <a:gd name="textAreaLeft" fmla="*/ 34560 w 3200400"/>
              <a:gd name="textAreaRight" fmla="*/ 3165840 w 3200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29585" h="21600">
                <a:moveTo>
                  <a:pt x="0" y="0"/>
                </a:moveTo>
                <a:lnTo>
                  <a:pt x="129585" y="0"/>
                </a:lnTo>
                <a:lnTo>
                  <a:pt x="129585" y="21600"/>
                </a:lnTo>
                <a:lnTo>
                  <a:pt x="0" y="21600"/>
                </a:lnTo>
                <a:close/>
              </a:path>
              <a:path fill="lightenLess" w="129585" h="21600">
                <a:moveTo>
                  <a:pt x="0" y="0"/>
                </a:moveTo>
                <a:lnTo>
                  <a:pt x="129585" y="0"/>
                </a:lnTo>
                <a:lnTo>
                  <a:pt x="128185" y="1400"/>
                </a:lnTo>
                <a:lnTo>
                  <a:pt x="1400" y="1400"/>
                </a:lnTo>
                <a:close/>
              </a:path>
              <a:path fill="darken" w="129585" h="21600">
                <a:moveTo>
                  <a:pt x="129585" y="0"/>
                </a:moveTo>
                <a:lnTo>
                  <a:pt x="129585" y="21600"/>
                </a:lnTo>
                <a:lnTo>
                  <a:pt x="128185" y="20200"/>
                </a:lnTo>
                <a:lnTo>
                  <a:pt x="128185" y="1400"/>
                </a:lnTo>
                <a:close/>
              </a:path>
              <a:path fill="darkenLess" w="129585" h="21600">
                <a:moveTo>
                  <a:pt x="12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85" y="20200"/>
                </a:lnTo>
                <a:close/>
              </a:path>
              <a:path fill="lighten" w="12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52578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79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albastre = adjec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6858000" y="4724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2578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lastslide"/>
          </p:cNvPr>
          <p:cNvSpPr/>
          <p:nvPr/>
        </p:nvSpPr>
        <p:spPr>
          <a:xfrm>
            <a:off x="6858000" y="57913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586728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71800" y="53341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4648320"/>
            <a:ext cx="3200400" cy="533160"/>
          </a:xfrm>
          <a:custGeom>
            <a:avLst/>
            <a:gdLst>
              <a:gd name="textAreaLeft" fmla="*/ 34560 w 3200400"/>
              <a:gd name="textAreaRight" fmla="*/ 3165840 w 3200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29585" h="21600">
                <a:moveTo>
                  <a:pt x="0" y="0"/>
                </a:moveTo>
                <a:lnTo>
                  <a:pt x="129585" y="0"/>
                </a:lnTo>
                <a:lnTo>
                  <a:pt x="129585" y="21600"/>
                </a:lnTo>
                <a:lnTo>
                  <a:pt x="0" y="21600"/>
                </a:lnTo>
                <a:close/>
              </a:path>
              <a:path fill="lightenLess" w="129585" h="21600">
                <a:moveTo>
                  <a:pt x="0" y="0"/>
                </a:moveTo>
                <a:lnTo>
                  <a:pt x="129585" y="0"/>
                </a:lnTo>
                <a:lnTo>
                  <a:pt x="128185" y="1400"/>
                </a:lnTo>
                <a:lnTo>
                  <a:pt x="1400" y="1400"/>
                </a:lnTo>
                <a:close/>
              </a:path>
              <a:path fill="darken" w="129585" h="21600">
                <a:moveTo>
                  <a:pt x="129585" y="0"/>
                </a:moveTo>
                <a:lnTo>
                  <a:pt x="129585" y="21600"/>
                </a:lnTo>
                <a:lnTo>
                  <a:pt x="128185" y="20200"/>
                </a:lnTo>
                <a:lnTo>
                  <a:pt x="128185" y="1400"/>
                </a:lnTo>
                <a:close/>
              </a:path>
              <a:path fill="darkenLess" w="129585" h="21600">
                <a:moveTo>
                  <a:pt x="12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85" y="20200"/>
                </a:lnTo>
                <a:close/>
              </a:path>
              <a:path fill="lighten" w="12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257800" y="52578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048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32767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0" y="27432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albastre = adjec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4724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52578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0" y="57913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lastslide"/>
            <a:hlinkClick r:id="rId3"/>
          </p:cNvPr>
          <p:cNvSpPr/>
          <p:nvPr/>
        </p:nvSpPr>
        <p:spPr>
          <a:xfrm>
            <a:off x="2971800" y="586728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lastslide"/>
            <a:hlinkClick r:id="rId4"/>
          </p:cNvPr>
          <p:cNvSpPr/>
          <p:nvPr/>
        </p:nvSpPr>
        <p:spPr>
          <a:xfrm>
            <a:off x="2971800" y="5334120"/>
            <a:ext cx="1981080" cy="457200"/>
          </a:xfrm>
          <a:custGeom>
            <a:avLst/>
            <a:gdLst>
              <a:gd name="textAreaLeft" fmla="*/ 29520 w 1981080"/>
              <a:gd name="textAreaRight" fmla="*/ 1951560 w 1981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38" h="21600">
                <a:moveTo>
                  <a:pt x="0" y="0"/>
                </a:moveTo>
                <a:lnTo>
                  <a:pt x="93538" y="0"/>
                </a:lnTo>
                <a:lnTo>
                  <a:pt x="93538" y="21600"/>
                </a:lnTo>
                <a:lnTo>
                  <a:pt x="0" y="21600"/>
                </a:lnTo>
                <a:close/>
              </a:path>
              <a:path fill="lightenLess" w="93538" h="21600">
                <a:moveTo>
                  <a:pt x="0" y="0"/>
                </a:moveTo>
                <a:lnTo>
                  <a:pt x="93538" y="0"/>
                </a:lnTo>
                <a:lnTo>
                  <a:pt x="92138" y="1400"/>
                </a:lnTo>
                <a:lnTo>
                  <a:pt x="1400" y="1400"/>
                </a:lnTo>
                <a:close/>
              </a:path>
              <a:path fill="darken" w="93538" h="21600">
                <a:moveTo>
                  <a:pt x="93538" y="0"/>
                </a:moveTo>
                <a:lnTo>
                  <a:pt x="93538" y="21600"/>
                </a:lnTo>
                <a:lnTo>
                  <a:pt x="92138" y="20200"/>
                </a:lnTo>
                <a:lnTo>
                  <a:pt x="92138" y="1400"/>
                </a:lnTo>
                <a:close/>
              </a:path>
              <a:path fill="darkenLess" w="93538" h="21600">
                <a:moveTo>
                  <a:pt x="93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38" y="20200"/>
                </a:lnTo>
                <a:close/>
              </a:path>
              <a:path fill="lighten" w="93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lastslide"/>
            <a:hlinkClick r:id="rId5"/>
          </p:cNvPr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nextslide"/>
            <a:hlinkClick r:id="rId6"/>
          </p:cNvPr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4648320"/>
            <a:ext cx="3200400" cy="533160"/>
          </a:xfrm>
          <a:custGeom>
            <a:avLst/>
            <a:gdLst>
              <a:gd name="textAreaLeft" fmla="*/ 34560 w 3200400"/>
              <a:gd name="textAreaRight" fmla="*/ 3165840 w 3200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29585" h="21600">
                <a:moveTo>
                  <a:pt x="0" y="0"/>
                </a:moveTo>
                <a:lnTo>
                  <a:pt x="129585" y="0"/>
                </a:lnTo>
                <a:lnTo>
                  <a:pt x="129585" y="21600"/>
                </a:lnTo>
                <a:lnTo>
                  <a:pt x="0" y="21600"/>
                </a:lnTo>
                <a:close/>
              </a:path>
              <a:path fill="lightenLess" w="129585" h="21600">
                <a:moveTo>
                  <a:pt x="0" y="0"/>
                </a:moveTo>
                <a:lnTo>
                  <a:pt x="129585" y="0"/>
                </a:lnTo>
                <a:lnTo>
                  <a:pt x="128185" y="1400"/>
                </a:lnTo>
                <a:lnTo>
                  <a:pt x="1400" y="1400"/>
                </a:lnTo>
                <a:close/>
              </a:path>
              <a:path fill="darken" w="129585" h="21600">
                <a:moveTo>
                  <a:pt x="129585" y="0"/>
                </a:moveTo>
                <a:lnTo>
                  <a:pt x="129585" y="21600"/>
                </a:lnTo>
                <a:lnTo>
                  <a:pt x="128185" y="20200"/>
                </a:lnTo>
                <a:lnTo>
                  <a:pt x="128185" y="1400"/>
                </a:lnTo>
                <a:close/>
              </a:path>
              <a:path fill="darkenLess" w="129585" h="21600">
                <a:moveTo>
                  <a:pt x="1295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85" y="20200"/>
                </a:lnTo>
                <a:close/>
              </a:path>
              <a:path fill="lighten" w="1295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57800" y="52578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86400" y="3048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0" y="327672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0" y="2743200"/>
            <a:ext cx="1523880" cy="457200"/>
          </a:xfrm>
          <a:custGeom>
            <a:avLst/>
            <a:gdLst>
              <a:gd name="textAreaLeft" fmla="*/ 29520 w 1523880"/>
              <a:gd name="textAreaRight" fmla="*/ 1494360 w 15238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1955" h="21600">
                <a:moveTo>
                  <a:pt x="0" y="0"/>
                </a:moveTo>
                <a:lnTo>
                  <a:pt x="71955" y="0"/>
                </a:lnTo>
                <a:lnTo>
                  <a:pt x="71955" y="21600"/>
                </a:lnTo>
                <a:lnTo>
                  <a:pt x="0" y="21600"/>
                </a:lnTo>
                <a:close/>
              </a:path>
              <a:path fill="lightenLess" w="71955" h="21600">
                <a:moveTo>
                  <a:pt x="0" y="0"/>
                </a:moveTo>
                <a:lnTo>
                  <a:pt x="71955" y="0"/>
                </a:lnTo>
                <a:lnTo>
                  <a:pt x="70555" y="1400"/>
                </a:lnTo>
                <a:lnTo>
                  <a:pt x="1400" y="1400"/>
                </a:lnTo>
                <a:close/>
              </a:path>
              <a:path fill="darken" w="71955" h="21600">
                <a:moveTo>
                  <a:pt x="71955" y="0"/>
                </a:moveTo>
                <a:lnTo>
                  <a:pt x="71955" y="21600"/>
                </a:lnTo>
                <a:lnTo>
                  <a:pt x="70555" y="20200"/>
                </a:lnTo>
                <a:lnTo>
                  <a:pt x="70555" y="1400"/>
                </a:lnTo>
                <a:close/>
              </a:path>
              <a:path fill="darkenLess" w="71955" h="21600">
                <a:moveTo>
                  <a:pt x="71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55" y="20200"/>
                </a:lnTo>
                <a:close/>
              </a:path>
              <a:path fill="lighten" w="71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albastre = adjec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lastslide"/>
          </p:cNvPr>
          <p:cNvSpPr/>
          <p:nvPr/>
        </p:nvSpPr>
        <p:spPr>
          <a:xfrm>
            <a:off x="5334120" y="5334120"/>
            <a:ext cx="129528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lastslide"/>
          </p:cNvPr>
          <p:cNvSpPr/>
          <p:nvPr/>
        </p:nvSpPr>
        <p:spPr>
          <a:xfrm>
            <a:off x="5486400" y="3048120"/>
            <a:ext cx="121932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lastslide"/>
          </p:cNvPr>
          <p:cNvSpPr/>
          <p:nvPr/>
        </p:nvSpPr>
        <p:spPr>
          <a:xfrm>
            <a:off x="6858000" y="2666880"/>
            <a:ext cx="16002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lastslide"/>
          </p:cNvPr>
          <p:cNvSpPr/>
          <p:nvPr/>
        </p:nvSpPr>
        <p:spPr>
          <a:xfrm>
            <a:off x="6858000" y="3276720"/>
            <a:ext cx="160020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lastslide"/>
          </p:cNvPr>
          <p:cNvSpPr/>
          <p:nvPr/>
        </p:nvSpPr>
        <p:spPr>
          <a:xfrm>
            <a:off x="6858000" y="4800600"/>
            <a:ext cx="167652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" action="ppaction://hlinkshowjump?jump=lastslide"/>
          </p:cNvPr>
          <p:cNvSpPr/>
          <p:nvPr/>
        </p:nvSpPr>
        <p:spPr>
          <a:xfrm>
            <a:off x="6858000" y="5334120"/>
            <a:ext cx="167652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lastslide"/>
          </p:cNvPr>
          <p:cNvSpPr/>
          <p:nvPr/>
        </p:nvSpPr>
        <p:spPr>
          <a:xfrm>
            <a:off x="838080" y="4724280"/>
            <a:ext cx="36576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lastslide"/>
          </p:cNvPr>
          <p:cNvSpPr/>
          <p:nvPr/>
        </p:nvSpPr>
        <p:spPr>
          <a:xfrm>
            <a:off x="838080" y="5334120"/>
            <a:ext cx="1524240" cy="43956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lastslide"/>
          </p:cNvPr>
          <p:cNvSpPr/>
          <p:nvPr/>
        </p:nvSpPr>
        <p:spPr>
          <a:xfrm>
            <a:off x="2971800" y="5334120"/>
            <a:ext cx="1676520" cy="43956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lastslide"/>
          </p:cNvPr>
          <p:cNvSpPr/>
          <p:nvPr/>
        </p:nvSpPr>
        <p:spPr>
          <a:xfrm>
            <a:off x="838080" y="5867280"/>
            <a:ext cx="1524240" cy="439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lastslide"/>
          </p:cNvPr>
          <p:cNvSpPr/>
          <p:nvPr/>
        </p:nvSpPr>
        <p:spPr>
          <a:xfrm>
            <a:off x="2743200" y="5867280"/>
            <a:ext cx="2133720" cy="439920"/>
          </a:xfrm>
          <a:prstGeom prst="rect">
            <a:avLst/>
          </a:prstGeom>
          <a:solidFill>
            <a:srgbClr val="3333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 flipH="1">
            <a:off x="3428640" y="266688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336" name="">
            <a:hlinkClick r:id="" action="ppaction://hlinkshowjump?jump=nextslide"/>
          </p:cNvPr>
          <p:cNvSpPr/>
          <p:nvPr/>
        </p:nvSpPr>
        <p:spPr>
          <a:xfrm flipH="1">
            <a:off x="2133000" y="2514600"/>
            <a:ext cx="1600200" cy="533520"/>
          </a:xfrm>
          <a:prstGeom prst="wedgeEllipseCallout">
            <a:avLst>
              <a:gd name="adj1" fmla="val -64685"/>
              <a:gd name="adj2" fmla="val 7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  <a:hlinkClick r:id="rId4"/>
          </p:cNvPr>
          <p:cNvSpPr/>
          <p:nvPr/>
        </p:nvSpPr>
        <p:spPr>
          <a:xfrm rot="5400000">
            <a:off x="533160" y="335268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lastslide"/>
          </p:cNvPr>
          <p:cNvSpPr/>
          <p:nvPr/>
        </p:nvSpPr>
        <p:spPr>
          <a:xfrm>
            <a:off x="6858000" y="5867280"/>
            <a:ext cx="167652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4572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albast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14600" y="2438280"/>
            <a:ext cx="4267080" cy="266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762120" y="5257800"/>
            <a:ext cx="769608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= adjectiv număr plural, gen feminin, funcţia în propoziţie : atrib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6934320" y="388620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4648320"/>
            <a:ext cx="167616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lbas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1590480" cy="1600200"/>
          </a:xfrm>
          <a:prstGeom prst="rect">
            <a:avLst/>
          </a:prstGeom>
          <a:ln w="0">
            <a:noFill/>
          </a:ln>
        </p:spPr>
      </p:pic>
      <p:sp>
        <p:nvSpPr>
          <p:cNvPr id="351" name="">
            <a:hlinkClick r:id="" action="ppaction://hlinkshowjump?jump=firstslide"/>
          </p:cNvPr>
          <p:cNvSpPr/>
          <p:nvPr/>
        </p:nvSpPr>
        <p:spPr>
          <a:xfrm>
            <a:off x="4038480" y="2590920"/>
            <a:ext cx="2667240" cy="838080"/>
          </a:xfrm>
          <a:prstGeom prst="wedgeEllipseCallout">
            <a:avLst>
              <a:gd name="adj1" fmla="val -63037"/>
              <a:gd name="adj2" fmla="val 103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356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las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las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las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nex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382" name=""/>
          <p:cNvSpPr/>
          <p:nvPr/>
        </p:nvSpPr>
        <p:spPr>
          <a:xfrm>
            <a:off x="685800" y="25146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e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uvânt de legătură, precede substantivul cico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29400" y="2438280"/>
            <a:ext cx="20574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rId2" action="ppaction://hlinksldjump"/>
          </p:cNvPr>
          <p:cNvSpPr/>
          <p:nvPr/>
        </p:nvSpPr>
        <p:spPr>
          <a:xfrm>
            <a:off x="609480" y="1676520"/>
            <a:ext cx="746784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firstslide"/>
          </p:cNvPr>
          <p:cNvSpPr/>
          <p:nvPr/>
        </p:nvSpPr>
        <p:spPr>
          <a:xfrm>
            <a:off x="7010280" y="4876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6498" y="7493"/>
                </a:moveTo>
                <a:lnTo>
                  <a:pt x="10005" y="7493"/>
                </a:lnTo>
                <a:lnTo>
                  <a:pt x="10005" y="12828"/>
                </a:lnTo>
                <a:cubicBezTo>
                  <a:pt x="10005" y="13751"/>
                  <a:pt x="10806" y="14482"/>
                  <a:pt x="11842" y="14482"/>
                </a:cubicBezTo>
                <a:lnTo>
                  <a:pt x="13504" y="14482"/>
                </a:lnTo>
                <a:cubicBezTo>
                  <a:pt x="14540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4" y="7493"/>
                </a:lnTo>
                <a:lnTo>
                  <a:pt x="17012" y="3985"/>
                </a:lnTo>
                <a:lnTo>
                  <a:pt x="20685" y="7493"/>
                </a:lnTo>
                <a:lnTo>
                  <a:pt x="18848" y="7493"/>
                </a:lnTo>
                <a:lnTo>
                  <a:pt x="18848" y="12828"/>
                </a:lnTo>
                <a:cubicBezTo>
                  <a:pt x="18848" y="15596"/>
                  <a:pt x="16272" y="18155"/>
                  <a:pt x="13504" y="18155"/>
                </a:cubicBezTo>
                <a:lnTo>
                  <a:pt x="11842" y="18155"/>
                </a:lnTo>
                <a:cubicBezTo>
                  <a:pt x="9074" y="18155"/>
                  <a:pt x="6498" y="15596"/>
                  <a:pt x="6498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 flipH="1">
            <a:off x="6934320" y="2590920"/>
            <a:ext cx="1590480" cy="160020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" action="ppaction://hlinkshowjump?jump=firstslide"/>
          </p:cNvPr>
          <p:cNvSpPr/>
          <p:nvPr/>
        </p:nvSpPr>
        <p:spPr>
          <a:xfrm flipH="1">
            <a:off x="4114800" y="4114800"/>
            <a:ext cx="2666880" cy="838080"/>
          </a:xfrm>
          <a:prstGeom prst="wedgeEllipseCallout">
            <a:avLst>
              <a:gd name="adj1" fmla="val -75833"/>
              <a:gd name="adj2" fmla="val -10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392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las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las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cicoare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las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418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442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0066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ff00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las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las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42900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fl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las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466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lastslide"/>
            <a:hlinkClick r:id="rId3"/>
          </p:cNvPr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  <a:hlinkClick r:id="rId4"/>
          </p:cNvPr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lastslide"/>
            <a:hlinkClick r:id="rId5"/>
          </p:cNvPr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490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lastslide"/>
            <a:hlinkClick r:id="rId3"/>
          </p:cNvPr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lastslide"/>
            <a:hlinkClick r:id="rId4"/>
          </p:cNvPr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" action="ppaction://hlinkshowjump?jump=nextslide"/>
            <a:hlinkClick r:id="rId5"/>
          </p:cNvPr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>
            <a:hlinkClick r:id="" action="ppaction://hlinkshowjump?jump=lastslide"/>
            <a:hlinkClick r:id="rId6"/>
          </p:cNvPr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62720" y="54100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514" name=""/>
          <p:cNvSpPr/>
          <p:nvPr/>
        </p:nvSpPr>
        <p:spPr>
          <a:xfrm>
            <a:off x="4572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2920" y="30481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162920" y="2514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638680" y="2819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2720" y="54100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7180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19520" y="58672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162920" y="37339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162920" y="42670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638680" y="3886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858000" y="48769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0" y="54100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0" y="59436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 flipH="1">
            <a:off x="3428640" y="266688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533" name="">
            <a:hlinkClick r:id="" action="ppaction://hlinkshowjump?jump=nextslide"/>
            <a:hlinkClick r:id="rId3"/>
          </p:cNvPr>
          <p:cNvSpPr/>
          <p:nvPr/>
        </p:nvSpPr>
        <p:spPr>
          <a:xfrm flipH="1">
            <a:off x="2133000" y="2514600"/>
            <a:ext cx="1600200" cy="533520"/>
          </a:xfrm>
          <a:prstGeom prst="wedgeEllipseCallout">
            <a:avLst>
              <a:gd name="adj1" fmla="val -64685"/>
              <a:gd name="adj2" fmla="val 7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nextslide"/>
            <a:hlinkClick r:id="rId4"/>
          </p:cNvPr>
          <p:cNvSpPr/>
          <p:nvPr/>
        </p:nvSpPr>
        <p:spPr>
          <a:xfrm rot="5400000">
            <a:off x="533160" y="335268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540" name=""/>
          <p:cNvSpPr/>
          <p:nvPr/>
        </p:nvSpPr>
        <p:spPr>
          <a:xfrm>
            <a:off x="4572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icoare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2514600"/>
            <a:ext cx="4343400" cy="2666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rId2" action="ppaction://hlinksldjump"/>
          </p:cNvPr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cicoare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lastslide"/>
          </p:cNvPr>
          <p:cNvSpPr/>
          <p:nvPr/>
        </p:nvSpPr>
        <p:spPr>
          <a:xfrm>
            <a:off x="762120" y="5257800"/>
            <a:ext cx="769608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= substantiv comun, număr singular, gen feminin, funcţie în propoziţie : atribut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545" name="">
            <a:hlinkClick r:id="" action="ppaction://hlinkshowjump?jump=firstslide"/>
          </p:cNvPr>
          <p:cNvSpPr/>
          <p:nvPr/>
        </p:nvSpPr>
        <p:spPr>
          <a:xfrm>
            <a:off x="6934320" y="388620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>
            <a:hlinkClick r:id="" action="ppaction://hlinkshowjump?jump=lastslide"/>
          </p:cNvPr>
          <p:cNvSpPr/>
          <p:nvPr/>
        </p:nvSpPr>
        <p:spPr>
          <a:xfrm>
            <a:off x="533520" y="4724280"/>
            <a:ext cx="1828800" cy="439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cico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firstslide"/>
          </p:cNvPr>
          <p:cNvSpPr/>
          <p:nvPr/>
        </p:nvSpPr>
        <p:spPr>
          <a:xfrm>
            <a:off x="4038480" y="2590920"/>
            <a:ext cx="2667240" cy="838080"/>
          </a:xfrm>
          <a:prstGeom prst="wedgeEllipseCallout">
            <a:avLst>
              <a:gd name="adj1" fmla="val -63037"/>
              <a:gd name="adj2" fmla="val 103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552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ff0000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las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las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nex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răsar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" action="ppaction://hlinkshowjump?jump=las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990360" cy="7444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578" name=""/>
          <p:cNvSpPr/>
          <p:nvPr/>
        </p:nvSpPr>
        <p:spPr>
          <a:xfrm>
            <a:off x="533520" y="4572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685800" y="1295280"/>
            <a:ext cx="7467480" cy="6098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e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re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57800" y="2514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erso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lastslide"/>
            <a:hlinkClick r:id="rId3"/>
          </p:cNvPr>
          <p:cNvSpPr/>
          <p:nvPr/>
        </p:nvSpPr>
        <p:spPr>
          <a:xfrm>
            <a:off x="7238880" y="19810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" action="ppaction://hlinkshowjump?jump=lastslide"/>
            <a:hlinkClick r:id="rId4"/>
          </p:cNvPr>
          <p:cNvSpPr/>
          <p:nvPr/>
        </p:nvSpPr>
        <p:spPr>
          <a:xfrm>
            <a:off x="7238880" y="2514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nextslide"/>
            <a:hlinkClick r:id="rId5"/>
          </p:cNvPr>
          <p:cNvSpPr/>
          <p:nvPr/>
        </p:nvSpPr>
        <p:spPr>
          <a:xfrm>
            <a:off x="7238880" y="3048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990360" cy="7444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603" name=""/>
          <p:cNvSpPr/>
          <p:nvPr/>
        </p:nvSpPr>
        <p:spPr>
          <a:xfrm>
            <a:off x="533520" y="4572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685800" y="1295280"/>
            <a:ext cx="7467480" cy="6098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lastslide"/>
            <a:hlinkClick r:id="rId3"/>
          </p:cNvPr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  <a:hlinkClick r:id="rId4"/>
          </p:cNvPr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e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re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257800" y="2514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erso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238880" y="19810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238880" y="2514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238880" y="3048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 I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990360" cy="7444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628" name=""/>
          <p:cNvSpPr/>
          <p:nvPr/>
        </p:nvSpPr>
        <p:spPr>
          <a:xfrm>
            <a:off x="533520" y="4572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685800" y="1295280"/>
            <a:ext cx="7467480" cy="6098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e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re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lastslide"/>
            <a:hlinkClick r:id="rId5"/>
          </p:cNvPr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57800" y="2514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erso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19810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2514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048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 I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990360" cy="7444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653" name=""/>
          <p:cNvSpPr/>
          <p:nvPr/>
        </p:nvSpPr>
        <p:spPr>
          <a:xfrm>
            <a:off x="533520" y="4572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685800" y="1295280"/>
            <a:ext cx="7467480" cy="6098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" action="ppaction://hlinkshowjump?jump=lastslide"/>
            <a:hlinkClick r:id="rId3"/>
          </p:cNvPr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" action="ppaction://hlinkshowjump?jump=nextslide"/>
            <a:hlinkClick r:id="rId4"/>
          </p:cNvPr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" action="ppaction://hlinkshowjump?jump=lastslide"/>
            <a:hlinkClick r:id="rId5"/>
          </p:cNvPr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lastslide"/>
            <a:hlinkClick r:id="rId6"/>
          </p:cNvPr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re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re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257800" y="2514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erso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238880" y="19810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38880" y="2514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3048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 I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990360" cy="7444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678" name=""/>
          <p:cNvSpPr/>
          <p:nvPr/>
        </p:nvSpPr>
        <p:spPr>
          <a:xfrm>
            <a:off x="533520" y="45720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1295280"/>
            <a:ext cx="7467480" cy="6098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rez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re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T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257800" y="2514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erso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238880" y="19810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238880" y="25146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 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238880" y="30481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a III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 flipH="1">
            <a:off x="3428640" y="281952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698" name="">
            <a:hlinkClick r:id="" action="ppaction://hlinkshowjump?jump=nextslide"/>
            <a:hlinkClick r:id="rId3"/>
          </p:cNvPr>
          <p:cNvSpPr/>
          <p:nvPr/>
        </p:nvSpPr>
        <p:spPr>
          <a:xfrm flipH="1">
            <a:off x="2133000" y="2514600"/>
            <a:ext cx="1600200" cy="533520"/>
          </a:xfrm>
          <a:prstGeom prst="wedgeEllipseCallout">
            <a:avLst>
              <a:gd name="adj1" fmla="val -64685"/>
              <a:gd name="adj2" fmla="val 7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nextslide"/>
            <a:hlinkClick r:id="rId4"/>
          </p:cNvPr>
          <p:cNvSpPr/>
          <p:nvPr/>
        </p:nvSpPr>
        <p:spPr>
          <a:xfrm rot="5400000">
            <a:off x="533160" y="335268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lastslide"/>
            <a:hlinkClick r:id="rId2"/>
          </p:cNvPr>
          <p:cNvSpPr/>
          <p:nvPr/>
        </p:nvSpPr>
        <p:spPr>
          <a:xfrm>
            <a:off x="5943600" y="2743200"/>
            <a:ext cx="76212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lastslide"/>
            <a:hlinkClick r:id="rId3"/>
          </p:cNvPr>
          <p:cNvSpPr/>
          <p:nvPr/>
        </p:nvSpPr>
        <p:spPr>
          <a:xfrm>
            <a:off x="7010280" y="3048120"/>
            <a:ext cx="137160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  <a:hlinkClick r:id="rId5"/>
          </p:cNvPr>
          <p:cNvSpPr/>
          <p:nvPr/>
        </p:nvSpPr>
        <p:spPr>
          <a:xfrm>
            <a:off x="7010280" y="2514600"/>
            <a:ext cx="137160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705" name=""/>
          <p:cNvSpPr/>
          <p:nvPr/>
        </p:nvSpPr>
        <p:spPr>
          <a:xfrm>
            <a:off x="4572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răsar = ver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362320" y="2438280"/>
            <a:ext cx="4419360" cy="266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rId2" action="ppaction://hlinksldjump"/>
          </p:cNvPr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>
            <a:hlinkClick r:id="" action="ppaction://hlinkshowjump?jump=firstslide"/>
          </p:cNvPr>
          <p:cNvSpPr/>
          <p:nvPr/>
        </p:nvSpPr>
        <p:spPr>
          <a:xfrm>
            <a:off x="762120" y="5257800"/>
            <a:ext cx="769608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= verb, persoana a III-a, număr plural, timp prezent, funcţie în propoziţie : predica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3"/>
          <a:stretch/>
        </p:blipFill>
        <p:spPr>
          <a:xfrm>
            <a:off x="2438280" y="342900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710" name="">
            <a:hlinkClick r:id="" action="ppaction://hlinkshowjump?jump=firstslide"/>
          </p:cNvPr>
          <p:cNvSpPr/>
          <p:nvPr/>
        </p:nvSpPr>
        <p:spPr>
          <a:xfrm>
            <a:off x="6934320" y="388620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lastslide"/>
          </p:cNvPr>
          <p:cNvSpPr/>
          <p:nvPr/>
        </p:nvSpPr>
        <p:spPr>
          <a:xfrm>
            <a:off x="762120" y="4648320"/>
            <a:ext cx="137160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" action="ppaction://hlinkshowjump?jump=firstslide"/>
          </p:cNvPr>
          <p:cNvSpPr/>
          <p:nvPr/>
        </p:nvSpPr>
        <p:spPr>
          <a:xfrm>
            <a:off x="4038480" y="2590920"/>
            <a:ext cx="2667240" cy="838080"/>
          </a:xfrm>
          <a:prstGeom prst="wedgeEllipseCallout">
            <a:avLst>
              <a:gd name="adj1" fmla="val -63037"/>
              <a:gd name="adj2" fmla="val 103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718" name=""/>
          <p:cNvSpPr/>
          <p:nvPr/>
        </p:nvSpPr>
        <p:spPr>
          <a:xfrm>
            <a:off x="685800" y="2514600"/>
            <a:ext cx="6248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lângă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cuvânt de legătură, precede substantivul d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629400" y="2438280"/>
            <a:ext cx="20574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>
            <a:hlinkClick r:id="rId2" action="ppaction://hlinksldjump"/>
          </p:cNvPr>
          <p:cNvSpPr/>
          <p:nvPr/>
        </p:nvSpPr>
        <p:spPr>
          <a:xfrm>
            <a:off x="609480" y="1676520"/>
            <a:ext cx="746784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lângă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" action="ppaction://hlinkshowjump?jump=firstslide"/>
          </p:cNvPr>
          <p:cNvSpPr/>
          <p:nvPr/>
        </p:nvSpPr>
        <p:spPr>
          <a:xfrm>
            <a:off x="7010280" y="4876920"/>
            <a:ext cx="1524240" cy="121896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7008" h="21600">
                <a:moveTo>
                  <a:pt x="0" y="0"/>
                </a:moveTo>
                <a:lnTo>
                  <a:pt x="27008" y="0"/>
                </a:lnTo>
                <a:lnTo>
                  <a:pt x="27008" y="21600"/>
                </a:lnTo>
                <a:lnTo>
                  <a:pt x="0" y="21600"/>
                </a:lnTo>
                <a:close/>
              </a:path>
              <a:path fill="lightenLess" w="27008" h="21600">
                <a:moveTo>
                  <a:pt x="0" y="0"/>
                </a:moveTo>
                <a:lnTo>
                  <a:pt x="27008" y="0"/>
                </a:lnTo>
                <a:lnTo>
                  <a:pt x="25608" y="1400"/>
                </a:lnTo>
                <a:lnTo>
                  <a:pt x="1400" y="1400"/>
                </a:lnTo>
                <a:close/>
              </a:path>
              <a:path fill="darken" w="27008" h="21600">
                <a:moveTo>
                  <a:pt x="27008" y="0"/>
                </a:moveTo>
                <a:lnTo>
                  <a:pt x="27008" y="21600"/>
                </a:lnTo>
                <a:lnTo>
                  <a:pt x="25608" y="20200"/>
                </a:lnTo>
                <a:lnTo>
                  <a:pt x="25608" y="1400"/>
                </a:lnTo>
                <a:close/>
              </a:path>
              <a:path fill="darkenLess" w="27008" h="21600">
                <a:moveTo>
                  <a:pt x="27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8" y="20200"/>
                </a:lnTo>
                <a:close/>
              </a:path>
              <a:path fill="lighten" w="27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8" h="21600">
                <a:moveTo>
                  <a:pt x="6498" y="7493"/>
                </a:moveTo>
                <a:lnTo>
                  <a:pt x="10005" y="7493"/>
                </a:lnTo>
                <a:lnTo>
                  <a:pt x="10005" y="12828"/>
                </a:lnTo>
                <a:cubicBezTo>
                  <a:pt x="10005" y="13751"/>
                  <a:pt x="10806" y="14482"/>
                  <a:pt x="11842" y="14482"/>
                </a:cubicBezTo>
                <a:lnTo>
                  <a:pt x="13504" y="14482"/>
                </a:lnTo>
                <a:cubicBezTo>
                  <a:pt x="14540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4" y="7493"/>
                </a:lnTo>
                <a:lnTo>
                  <a:pt x="17012" y="3985"/>
                </a:lnTo>
                <a:lnTo>
                  <a:pt x="20685" y="7493"/>
                </a:lnTo>
                <a:lnTo>
                  <a:pt x="18848" y="7493"/>
                </a:lnTo>
                <a:lnTo>
                  <a:pt x="18848" y="12828"/>
                </a:lnTo>
                <a:cubicBezTo>
                  <a:pt x="18848" y="15596"/>
                  <a:pt x="16272" y="18155"/>
                  <a:pt x="13504" y="18155"/>
                </a:cubicBezTo>
                <a:lnTo>
                  <a:pt x="11842" y="18155"/>
                </a:lnTo>
                <a:cubicBezTo>
                  <a:pt x="9074" y="18155"/>
                  <a:pt x="6498" y="15596"/>
                  <a:pt x="6498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 flipH="1">
            <a:off x="6934320" y="2590920"/>
            <a:ext cx="1590480" cy="1600200"/>
          </a:xfrm>
          <a:prstGeom prst="rect">
            <a:avLst/>
          </a:prstGeom>
          <a:ln w="0">
            <a:noFill/>
          </a:ln>
        </p:spPr>
      </p:pic>
      <p:sp>
        <p:nvSpPr>
          <p:cNvPr id="723" name="">
            <a:hlinkClick r:id="" action="ppaction://hlinkshowjump?jump=firstslide"/>
          </p:cNvPr>
          <p:cNvSpPr/>
          <p:nvPr/>
        </p:nvSpPr>
        <p:spPr>
          <a:xfrm flipH="1">
            <a:off x="4114800" y="4114800"/>
            <a:ext cx="2666880" cy="838080"/>
          </a:xfrm>
          <a:prstGeom prst="wedgeEllipseCallout">
            <a:avLst>
              <a:gd name="adj1" fmla="val -75833"/>
              <a:gd name="adj2" fmla="val -104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728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>
            <a:hlinkClick r:id="" action="ppaction://hlinkshowjump?jump=nex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las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>
            <a:hlinkClick r:id="" action="ppaction://hlinkshowjump?jump=las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drum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" action="ppaction://hlinkshowjump?jump=las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92" dur="2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754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778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>
            <a:hlinkClick r:id="" action="ppaction://hlinkshowjump?jump=nextslide"/>
            <a:hlinkClick r:id="rId3"/>
          </p:cNvPr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802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lastslide"/>
            <a:hlinkClick r:id="rId3"/>
          </p:cNvPr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" action="ppaction://hlinkshowjump?jump=lastslide"/>
            <a:hlinkClick r:id="rId4"/>
          </p:cNvPr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" action="ppaction://hlinkshowjump?jump=nextslide"/>
            <a:hlinkClick r:id="rId5"/>
          </p:cNvPr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826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>
            <a:hlinkClick r:id="" action="ppaction://hlinkshowjump?jump=lastslide"/>
            <a:hlinkClick r:id="rId3"/>
          </p:cNvPr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>
            <a:hlinkClick r:id="" action="ppaction://hlinkshowjump?jump=lastslide"/>
            <a:hlinkClick r:id="rId4"/>
          </p:cNvPr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>
            <a:hlinkClick r:id="" action="ppaction://hlinkshowjump?jump=lastslide"/>
            <a:hlinkClick r:id="rId5"/>
          </p:cNvPr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" action="ppaction://hlinkshowjump?jump=nextslide"/>
            <a:hlinkClick r:id="rId6"/>
          </p:cNvPr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850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 flipH="1">
            <a:off x="3428640" y="281952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869" name="">
            <a:hlinkClick r:id="" action="ppaction://hlinkshowjump?jump=nextslide"/>
            <a:hlinkClick r:id="rId3"/>
          </p:cNvPr>
          <p:cNvSpPr/>
          <p:nvPr/>
        </p:nvSpPr>
        <p:spPr>
          <a:xfrm flipH="1">
            <a:off x="2133000" y="2514600"/>
            <a:ext cx="1600200" cy="533520"/>
          </a:xfrm>
          <a:prstGeom prst="wedgeEllipseCallout">
            <a:avLst>
              <a:gd name="adj1" fmla="val -64685"/>
              <a:gd name="adj2" fmla="val 7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>
            <a:hlinkClick r:id="" action="ppaction://hlinkshowjump?jump=nextslide"/>
            <a:hlinkClick r:id="rId4"/>
          </p:cNvPr>
          <p:cNvSpPr/>
          <p:nvPr/>
        </p:nvSpPr>
        <p:spPr>
          <a:xfrm rot="5400000">
            <a:off x="533160" y="335268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876" name=""/>
          <p:cNvSpPr/>
          <p:nvPr/>
        </p:nvSpPr>
        <p:spPr>
          <a:xfrm>
            <a:off x="457200" y="609480"/>
            <a:ext cx="6324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drum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2438280"/>
            <a:ext cx="4419360" cy="2667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rId2" action="ppaction://hlinksldjump"/>
          </p:cNvPr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Flori albastre de cicoare răsar lângă 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>
            <a:hlinkClick r:id="" action="ppaction://hlinkshowjump?jump=lastslide"/>
          </p:cNvPr>
          <p:cNvSpPr/>
          <p:nvPr/>
        </p:nvSpPr>
        <p:spPr>
          <a:xfrm>
            <a:off x="762120" y="5257800"/>
            <a:ext cx="769608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= substantiv comun, număr singular, gen neutru, funcţie în propoziţie : complement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" descr=""/>
          <p:cNvPicPr/>
          <p:nvPr/>
        </p:nvPicPr>
        <p:blipFill>
          <a:blip r:embed="rId3"/>
          <a:stretch/>
        </p:blipFill>
        <p:spPr>
          <a:xfrm>
            <a:off x="2666880" y="342900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881" name="">
            <a:hlinkClick r:id="" action="ppaction://hlinkshowjump?jump=firstslide"/>
          </p:cNvPr>
          <p:cNvSpPr/>
          <p:nvPr/>
        </p:nvSpPr>
        <p:spPr>
          <a:xfrm>
            <a:off x="7086600" y="3886200"/>
            <a:ext cx="1523880" cy="1219320"/>
          </a:xfrm>
          <a:custGeom>
            <a:avLst/>
            <a:gdLst>
              <a:gd name="textAreaLeft" fmla="*/ 78840 w 1523880"/>
              <a:gd name="textAreaRight" fmla="*/ 1445040 w 15238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7493"/>
                </a:moveTo>
                <a:lnTo>
                  <a:pt x="9998" y="7493"/>
                </a:lnTo>
                <a:lnTo>
                  <a:pt x="9998" y="12828"/>
                </a:lnTo>
                <a:cubicBezTo>
                  <a:pt x="9998" y="13751"/>
                  <a:pt x="10799" y="14482"/>
                  <a:pt x="11834" y="14482"/>
                </a:cubicBezTo>
                <a:lnTo>
                  <a:pt x="13497" y="14482"/>
                </a:lnTo>
                <a:cubicBezTo>
                  <a:pt x="14533" y="14482"/>
                  <a:pt x="15333" y="13751"/>
                  <a:pt x="15333" y="12828"/>
                </a:cubicBezTo>
                <a:lnTo>
                  <a:pt x="15333" y="7493"/>
                </a:lnTo>
                <a:lnTo>
                  <a:pt x="13497" y="7493"/>
                </a:lnTo>
                <a:lnTo>
                  <a:pt x="17004" y="3985"/>
                </a:lnTo>
                <a:lnTo>
                  <a:pt x="20677" y="7493"/>
                </a:lnTo>
                <a:lnTo>
                  <a:pt x="18841" y="7493"/>
                </a:lnTo>
                <a:lnTo>
                  <a:pt x="18841" y="12828"/>
                </a:lnTo>
                <a:cubicBezTo>
                  <a:pt x="18841" y="15596"/>
                  <a:pt x="16265" y="18155"/>
                  <a:pt x="13497" y="18155"/>
                </a:cubicBezTo>
                <a:lnTo>
                  <a:pt x="11834" y="18155"/>
                </a:lnTo>
                <a:cubicBezTo>
                  <a:pt x="9067" y="18155"/>
                  <a:pt x="6490" y="15596"/>
                  <a:pt x="6490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>
            <a:hlinkClick r:id="" action="ppaction://hlinkshowjump?jump=lastslide"/>
          </p:cNvPr>
          <p:cNvSpPr/>
          <p:nvPr/>
        </p:nvSpPr>
        <p:spPr>
          <a:xfrm>
            <a:off x="533520" y="4572000"/>
            <a:ext cx="190476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99"/>
                </a:solidFill>
                <a:latin typeface="Arial"/>
              </a:rPr>
              <a:t>lângă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d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>
            <a:hlinkClick r:id="" action="ppaction://hlinkshowjump?jump=firstslide"/>
          </p:cNvPr>
          <p:cNvSpPr/>
          <p:nvPr/>
        </p:nvSpPr>
        <p:spPr>
          <a:xfrm>
            <a:off x="4191120" y="2514600"/>
            <a:ext cx="2666880" cy="838080"/>
          </a:xfrm>
          <a:prstGeom prst="wedgeEllipseCallout">
            <a:avLst>
              <a:gd name="adj1" fmla="val -63037"/>
              <a:gd name="adj2" fmla="val 103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>
            <a:hlinkClick r:id="rId1" action="ppaction://hlinksldjump"/>
          </p:cNvPr>
          <p:cNvSpPr/>
          <p:nvPr/>
        </p:nvSpPr>
        <p:spPr>
          <a:xfrm>
            <a:off x="457200" y="1219320"/>
            <a:ext cx="6400800" cy="4572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Arial"/>
              </a:rPr>
              <a:t>Flori albastre de cicoare răsar lângă drum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" action="ppaction://hlinkshowjump?jump=lastslide"/>
          </p:cNvPr>
          <p:cNvSpPr/>
          <p:nvPr/>
        </p:nvSpPr>
        <p:spPr>
          <a:xfrm>
            <a:off x="457200" y="1828800"/>
            <a:ext cx="815328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flori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= substantiv comun, număr plural, gen feminin, funcţie în propoziţie : subiect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" descr=""/>
          <p:cNvPicPr/>
          <p:nvPr/>
        </p:nvPicPr>
        <p:blipFill>
          <a:blip r:embed="rId2"/>
          <a:stretch/>
        </p:blipFill>
        <p:spPr>
          <a:xfrm>
            <a:off x="533520" y="5029200"/>
            <a:ext cx="1363680" cy="1371600"/>
          </a:xfrm>
          <a:prstGeom prst="rect">
            <a:avLst/>
          </a:prstGeom>
          <a:ln w="0">
            <a:noFill/>
          </a:ln>
        </p:spPr>
      </p:pic>
      <p:sp>
        <p:nvSpPr>
          <p:cNvPr id="891" name="">
            <a:hlinkClick r:id="" action="ppaction://hlinkshowjump?jump=lastslide"/>
          </p:cNvPr>
          <p:cNvSpPr/>
          <p:nvPr/>
        </p:nvSpPr>
        <p:spPr>
          <a:xfrm>
            <a:off x="457200" y="2362320"/>
            <a:ext cx="815328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lbastre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= adjectiv, număr plural, gen feminin, funcţie în propoziţie : atribut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>
            <a:hlinkClick r:id="" action="ppaction://hlinkshowjump?jump=lastslide"/>
          </p:cNvPr>
          <p:cNvSpPr/>
          <p:nvPr/>
        </p:nvSpPr>
        <p:spPr>
          <a:xfrm>
            <a:off x="457200" y="2895480"/>
            <a:ext cx="815328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de cicoare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= substantiv comun + cuvânt de legătură, număr singular, gen feminin, funcţie în propoziţie : atribut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>
            <a:hlinkClick r:id="" action="ppaction://hlinkshowjump?jump=lastslide"/>
          </p:cNvPr>
          <p:cNvSpPr/>
          <p:nvPr/>
        </p:nvSpPr>
        <p:spPr>
          <a:xfrm>
            <a:off x="457200" y="3657600"/>
            <a:ext cx="815328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răsar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= verb, persoana a III-a, număr plural, timp prezent, funcţie în propoziţie : predicat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>
            <a:hlinkClick r:id="" action="ppaction://hlinkshowjump?jump=lastslide"/>
          </p:cNvPr>
          <p:cNvSpPr/>
          <p:nvPr/>
        </p:nvSpPr>
        <p:spPr>
          <a:xfrm>
            <a:off x="457200" y="4191120"/>
            <a:ext cx="815328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lângă drum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= substantiv comun + cuvânt de legătură, număr singular, gen neutru, funcţie în propoziţie : complement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>
            <a:hlinkClick r:id="" action="ppaction://hlinkshowjump?jump=nextslide"/>
            <a:hlinkClick r:id="rId3"/>
          </p:cNvPr>
          <p:cNvSpPr/>
          <p:nvPr/>
        </p:nvSpPr>
        <p:spPr>
          <a:xfrm>
            <a:off x="2971800" y="5105520"/>
            <a:ext cx="3124080" cy="1218960"/>
          </a:xfrm>
          <a:custGeom>
            <a:avLst/>
            <a:gdLst>
              <a:gd name="textAreaLeft" fmla="*/ 78840 w 3124080"/>
              <a:gd name="textAreaRight" fmla="*/ 3045240 w 312408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55349" h="21600">
                <a:moveTo>
                  <a:pt x="0" y="0"/>
                </a:moveTo>
                <a:lnTo>
                  <a:pt x="55349" y="0"/>
                </a:lnTo>
                <a:lnTo>
                  <a:pt x="55349" y="21600"/>
                </a:lnTo>
                <a:lnTo>
                  <a:pt x="0" y="21600"/>
                </a:lnTo>
                <a:close/>
              </a:path>
              <a:path fill="lightenLess" w="55349" h="21600">
                <a:moveTo>
                  <a:pt x="0" y="0"/>
                </a:moveTo>
                <a:lnTo>
                  <a:pt x="55349" y="0"/>
                </a:lnTo>
                <a:lnTo>
                  <a:pt x="53949" y="1400"/>
                </a:lnTo>
                <a:lnTo>
                  <a:pt x="1400" y="1400"/>
                </a:lnTo>
                <a:close/>
              </a:path>
              <a:path fill="darken" w="55349" h="21600">
                <a:moveTo>
                  <a:pt x="55349" y="0"/>
                </a:moveTo>
                <a:lnTo>
                  <a:pt x="55349" y="21600"/>
                </a:lnTo>
                <a:lnTo>
                  <a:pt x="53949" y="20200"/>
                </a:lnTo>
                <a:lnTo>
                  <a:pt x="53949" y="1400"/>
                </a:lnTo>
                <a:close/>
              </a:path>
              <a:path fill="darkenLess" w="55349" h="21600">
                <a:moveTo>
                  <a:pt x="55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949" y="20200"/>
                </a:lnTo>
                <a:close/>
              </a:path>
              <a:path fill="lighten" w="55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chema propoziţiei</a:t>
            </a:r>
            <a:r>
              <a:rPr b="0" lang="ro-RO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4"/>
          <a:stretch/>
        </p:blipFill>
        <p:spPr>
          <a:xfrm flipH="1">
            <a:off x="7085160" y="5029200"/>
            <a:ext cx="1363680" cy="1371600"/>
          </a:xfrm>
          <a:prstGeom prst="rect">
            <a:avLst/>
          </a:prstGeom>
          <a:ln w="0">
            <a:noFill/>
          </a:ln>
        </p:spPr>
      </p:pic>
      <p:sp>
        <p:nvSpPr>
          <p:cNvPr id="897" name="">
            <a:hlinkClick r:id="" action="ppaction://hlinkshowjump?jump=nextslide"/>
          </p:cNvPr>
          <p:cNvSpPr/>
          <p:nvPr/>
        </p:nvSpPr>
        <p:spPr>
          <a:xfrm rot="5400000">
            <a:off x="1905120" y="54864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0" h="21600">
                <a:moveTo>
                  <a:pt x="32279" y="10800"/>
                </a:moveTo>
                <a:lnTo>
                  <a:pt x="21774" y="17806"/>
                </a:lnTo>
                <a:lnTo>
                  <a:pt x="21774" y="3794"/>
                </a:lnTo>
                <a:close/>
              </a:path>
              <a:path fill="darken" w="57560" h="21600">
                <a:moveTo>
                  <a:pt x="34124" y="3794"/>
                </a:moveTo>
                <a:lnTo>
                  <a:pt x="34124" y="17806"/>
                </a:lnTo>
                <a:lnTo>
                  <a:pt x="35787" y="17806"/>
                </a:lnTo>
                <a:lnTo>
                  <a:pt x="35787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nextslide"/>
          </p:cNvPr>
          <p:cNvSpPr/>
          <p:nvPr/>
        </p:nvSpPr>
        <p:spPr>
          <a:xfrm rot="5400000">
            <a:off x="5791320" y="548640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0" h="21600">
                <a:moveTo>
                  <a:pt x="32279" y="10800"/>
                </a:moveTo>
                <a:lnTo>
                  <a:pt x="21774" y="17806"/>
                </a:lnTo>
                <a:lnTo>
                  <a:pt x="21774" y="3794"/>
                </a:lnTo>
                <a:close/>
              </a:path>
              <a:path fill="darken" w="57560" h="21600">
                <a:moveTo>
                  <a:pt x="34124" y="3794"/>
                </a:moveTo>
                <a:lnTo>
                  <a:pt x="34124" y="17806"/>
                </a:lnTo>
                <a:lnTo>
                  <a:pt x="35787" y="17806"/>
                </a:lnTo>
                <a:lnTo>
                  <a:pt x="35787" y="379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" y="4572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5"/>
          <a:stretch/>
        </p:blipFill>
        <p:spPr>
          <a:xfrm>
            <a:off x="73152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3886200"/>
            <a:ext cx="121932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  <a:hlinkClick r:id="rId3"/>
          </p:cNvPr>
          <p:cNvSpPr/>
          <p:nvPr/>
        </p:nvSpPr>
        <p:spPr>
          <a:xfrm>
            <a:off x="6858000" y="3657600"/>
            <a:ext cx="160020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  <a:hlinkClick r:id="rId4"/>
          </p:cNvPr>
          <p:cNvSpPr/>
          <p:nvPr/>
        </p:nvSpPr>
        <p:spPr>
          <a:xfrm>
            <a:off x="6858000" y="4191120"/>
            <a:ext cx="160020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30481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514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819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34320" y="4800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8672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>
            <a:hlinkClick r:id="rId1" action="ppaction://hlinksldjump"/>
          </p:cNvPr>
          <p:cNvSpPr/>
          <p:nvPr/>
        </p:nvSpPr>
        <p:spPr>
          <a:xfrm>
            <a:off x="609480" y="685800"/>
            <a:ext cx="7467840" cy="6094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000066"/>
                </a:solidFill>
                <a:uFillTx/>
                <a:latin typeface="Arial"/>
              </a:rPr>
              <a:t>Flori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66ff"/>
                </a:solidFill>
                <a:latin typeface="Arial"/>
              </a:rPr>
              <a:t>albastre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66ff"/>
                </a:solidFill>
                <a:latin typeface="Arial"/>
              </a:rPr>
              <a:t>de cicoare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800" spc="-1" strike="noStrike" u="sng">
                <a:solidFill>
                  <a:srgbClr val="ff0000"/>
                </a:solidFill>
                <a:uFillTx/>
                <a:latin typeface="Arial"/>
              </a:rPr>
              <a:t>răsar</a:t>
            </a: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9900cc"/>
                </a:solidFill>
                <a:latin typeface="Arial"/>
              </a:rPr>
              <a:t>lângă drum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" action="ppaction://hlinkshowjump?jump=lastslide"/>
          </p:cNvPr>
          <p:cNvSpPr/>
          <p:nvPr/>
        </p:nvSpPr>
        <p:spPr>
          <a:xfrm>
            <a:off x="1295280" y="1752480"/>
            <a:ext cx="259092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Flori  S / s</a:t>
            </a:r>
            <a:r>
              <a:rPr b="1" lang="ro-RO" sz="1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838080" y="4343400"/>
            <a:ext cx="1212840" cy="1219320"/>
          </a:xfrm>
          <a:prstGeom prst="rect">
            <a:avLst/>
          </a:prstGeom>
          <a:ln w="0">
            <a:noFill/>
          </a:ln>
        </p:spPr>
      </p:pic>
      <p:sp>
        <p:nvSpPr>
          <p:cNvPr id="908" name="">
            <a:hlinkClick r:id="" action="ppaction://hlinkshowjump?jump=lastslide"/>
          </p:cNvPr>
          <p:cNvSpPr/>
          <p:nvPr/>
        </p:nvSpPr>
        <p:spPr>
          <a:xfrm>
            <a:off x="609480" y="3200400"/>
            <a:ext cx="175284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albastre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A / a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" action="ppaction://hlinkshowjump?jump=lastslide"/>
          </p:cNvPr>
          <p:cNvSpPr/>
          <p:nvPr/>
        </p:nvSpPr>
        <p:spPr>
          <a:xfrm>
            <a:off x="2666880" y="3200400"/>
            <a:ext cx="221004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de cicoare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   A /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" action="ppaction://hlinkshowjump?jump=lastslide"/>
          </p:cNvPr>
          <p:cNvSpPr/>
          <p:nvPr/>
        </p:nvSpPr>
        <p:spPr>
          <a:xfrm>
            <a:off x="5867280" y="1752480"/>
            <a:ext cx="2133720" cy="5335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răsar   P / v</a:t>
            </a:r>
            <a:r>
              <a:rPr b="1" lang="ro-RO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" action="ppaction://hlinkshowjump?jump=lastslide"/>
          </p:cNvPr>
          <p:cNvSpPr/>
          <p:nvPr/>
        </p:nvSpPr>
        <p:spPr>
          <a:xfrm>
            <a:off x="5867280" y="3200400"/>
            <a:ext cx="236232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9900cc"/>
                </a:solidFill>
                <a:latin typeface="Arial"/>
              </a:rPr>
              <a:t>lângă drum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   C /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 flipH="1">
            <a:off x="7238880" y="4267080"/>
            <a:ext cx="1363680" cy="137160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4038480" y="198108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599840" y="2362320"/>
            <a:ext cx="114300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743200" y="2362320"/>
            <a:ext cx="9907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62120" y="1219320"/>
            <a:ext cx="76176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>
            <a:hlinkClick r:id="" action="ppaction://hlinkshowjump?jump=firstslide"/>
          </p:cNvPr>
          <p:cNvSpPr/>
          <p:nvPr/>
        </p:nvSpPr>
        <p:spPr>
          <a:xfrm>
            <a:off x="3962520" y="4267080"/>
            <a:ext cx="1600200" cy="1295640"/>
          </a:xfrm>
          <a:custGeom>
            <a:avLst/>
            <a:gdLst>
              <a:gd name="textAreaLeft" fmla="*/ 83880 w 1600200"/>
              <a:gd name="textAreaRight" fmla="*/ 1516320 w 16002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6676" h="21600">
                <a:moveTo>
                  <a:pt x="0" y="0"/>
                </a:moveTo>
                <a:lnTo>
                  <a:pt x="26676" y="0"/>
                </a:lnTo>
                <a:lnTo>
                  <a:pt x="26676" y="21600"/>
                </a:lnTo>
                <a:lnTo>
                  <a:pt x="0" y="21600"/>
                </a:lnTo>
                <a:close/>
              </a:path>
              <a:path fill="lightenLess" w="26676" h="21600">
                <a:moveTo>
                  <a:pt x="0" y="0"/>
                </a:moveTo>
                <a:lnTo>
                  <a:pt x="26676" y="0"/>
                </a:lnTo>
                <a:lnTo>
                  <a:pt x="25276" y="1400"/>
                </a:lnTo>
                <a:lnTo>
                  <a:pt x="1400" y="1400"/>
                </a:lnTo>
                <a:close/>
              </a:path>
              <a:path fill="darken" w="26676" h="21600">
                <a:moveTo>
                  <a:pt x="26676" y="0"/>
                </a:moveTo>
                <a:lnTo>
                  <a:pt x="26676" y="21600"/>
                </a:lnTo>
                <a:lnTo>
                  <a:pt x="25276" y="20200"/>
                </a:lnTo>
                <a:lnTo>
                  <a:pt x="25276" y="1400"/>
                </a:lnTo>
                <a:close/>
              </a:path>
              <a:path fill="darkenLess" w="26676" h="21600">
                <a:moveTo>
                  <a:pt x="2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6" y="20200"/>
                </a:lnTo>
                <a:close/>
              </a:path>
              <a:path fill="lighten" w="2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76" h="21600">
                <a:moveTo>
                  <a:pt x="6332" y="7493"/>
                </a:moveTo>
                <a:lnTo>
                  <a:pt x="9839" y="7493"/>
                </a:lnTo>
                <a:lnTo>
                  <a:pt x="9839" y="12828"/>
                </a:lnTo>
                <a:cubicBezTo>
                  <a:pt x="9839" y="13751"/>
                  <a:pt x="10640" y="14482"/>
                  <a:pt x="11676" y="14482"/>
                </a:cubicBezTo>
                <a:lnTo>
                  <a:pt x="13338" y="14482"/>
                </a:lnTo>
                <a:cubicBezTo>
                  <a:pt x="14374" y="14482"/>
                  <a:pt x="15174" y="13751"/>
                  <a:pt x="15174" y="12828"/>
                </a:cubicBezTo>
                <a:lnTo>
                  <a:pt x="15174" y="7493"/>
                </a:lnTo>
                <a:lnTo>
                  <a:pt x="13338" y="7493"/>
                </a:lnTo>
                <a:lnTo>
                  <a:pt x="16846" y="3985"/>
                </a:lnTo>
                <a:lnTo>
                  <a:pt x="20519" y="7493"/>
                </a:lnTo>
                <a:lnTo>
                  <a:pt x="18682" y="7493"/>
                </a:lnTo>
                <a:lnTo>
                  <a:pt x="18682" y="12828"/>
                </a:lnTo>
                <a:cubicBezTo>
                  <a:pt x="18682" y="15596"/>
                  <a:pt x="16106" y="18155"/>
                  <a:pt x="13338" y="18155"/>
                </a:cubicBezTo>
                <a:lnTo>
                  <a:pt x="11676" y="18155"/>
                </a:lnTo>
                <a:cubicBezTo>
                  <a:pt x="8908" y="18155"/>
                  <a:pt x="6332" y="15596"/>
                  <a:pt x="6332" y="12828"/>
                </a:cubicBezTo>
                <a:close/>
              </a:path>
            </a:pathLst>
          </a:custGeom>
          <a:solidFill>
            <a:srgbClr val="00ffcc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4"/>
          <a:stretch/>
        </p:blipFill>
        <p:spPr>
          <a:xfrm>
            <a:off x="3505320" y="5791320"/>
            <a:ext cx="761760" cy="5731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5"/>
          <a:stretch/>
        </p:blipFill>
        <p:spPr>
          <a:xfrm>
            <a:off x="2666880" y="579132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6"/>
          <a:stretch/>
        </p:blipFill>
        <p:spPr>
          <a:xfrm>
            <a:off x="4343400" y="579132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7"/>
          <a:stretch/>
        </p:blipFill>
        <p:spPr>
          <a:xfrm>
            <a:off x="5181480" y="579132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8"/>
          <a:stretch/>
        </p:blipFill>
        <p:spPr>
          <a:xfrm>
            <a:off x="6019920" y="5791320"/>
            <a:ext cx="761760" cy="57312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9"/>
          <a:stretch/>
        </p:blipFill>
        <p:spPr>
          <a:xfrm>
            <a:off x="1828800" y="5791320"/>
            <a:ext cx="762120" cy="5731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10"/>
          <a:stretch/>
        </p:blipFill>
        <p:spPr>
          <a:xfrm>
            <a:off x="6858000" y="5791320"/>
            <a:ext cx="76212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cc"/>
              </a:gs>
              <a:gs pos="100000">
                <a:srgbClr val="ff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flipH="1">
            <a:off x="6629040" y="3886200"/>
            <a:ext cx="1973160" cy="1981080"/>
          </a:xfrm>
          <a:prstGeom prst="rect">
            <a:avLst/>
          </a:prstGeom>
          <a:ln w="0">
            <a:noFill/>
          </a:ln>
        </p:spPr>
      </p:pic>
      <p:sp>
        <p:nvSpPr>
          <p:cNvPr id="930" name="">
            <a:hlinkClick r:id="" action="ppaction://hlinkshowjump?jump=previousslide"/>
            <a:hlinkClick r:id="rId2"/>
          </p:cNvPr>
          <p:cNvSpPr/>
          <p:nvPr/>
        </p:nvSpPr>
        <p:spPr>
          <a:xfrm flipH="1">
            <a:off x="1218600" y="914400"/>
            <a:ext cx="4800600" cy="3657600"/>
          </a:xfrm>
          <a:prstGeom prst="wedgeEllipseCallout">
            <a:avLst>
              <a:gd name="adj1" fmla="val -63328"/>
              <a:gd name="adj2" fmla="val 51907"/>
            </a:avLst>
          </a:prstGeom>
          <a:solidFill>
            <a:srgbClr val="ff66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>
            <a:hlinkClick r:id="" action="ppaction://hlinkshowjump?jump=previousslide"/>
          </p:cNvPr>
          <p:cNvSpPr/>
          <p:nvPr/>
        </p:nvSpPr>
        <p:spPr>
          <a:xfrm>
            <a:off x="1371600" y="2209680"/>
            <a:ext cx="4495680" cy="6098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GREŞEAL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" action="ppaction://hlinkshowjump?jump=previousslide"/>
          </p:cNvPr>
          <p:cNvSpPr/>
          <p:nvPr/>
        </p:nvSpPr>
        <p:spPr>
          <a:xfrm>
            <a:off x="2057400" y="2895480"/>
            <a:ext cx="3429000" cy="6098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ai 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" action="ppaction://hlinkshowjump?jump=previousslide"/>
            <a:hlinkClick r:id="rId3"/>
          </p:cNvPr>
          <p:cNvSpPr/>
          <p:nvPr/>
        </p:nvSpPr>
        <p:spPr>
          <a:xfrm>
            <a:off x="3581280" y="4876920"/>
            <a:ext cx="2133720" cy="1371600"/>
          </a:xfrm>
          <a:custGeom>
            <a:avLst/>
            <a:gdLst>
              <a:gd name="textAreaLeft" fmla="*/ 88920 w 2133720"/>
              <a:gd name="textAreaRight" fmla="*/ 2044800 w 21337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33599" h="21600">
                <a:moveTo>
                  <a:pt x="0" y="0"/>
                </a:moveTo>
                <a:lnTo>
                  <a:pt x="33599" y="0"/>
                </a:lnTo>
                <a:lnTo>
                  <a:pt x="33599" y="21600"/>
                </a:lnTo>
                <a:lnTo>
                  <a:pt x="0" y="21600"/>
                </a:lnTo>
                <a:close/>
              </a:path>
              <a:path fill="lightenLess" w="33599" h="21600">
                <a:moveTo>
                  <a:pt x="0" y="0"/>
                </a:moveTo>
                <a:lnTo>
                  <a:pt x="33599" y="0"/>
                </a:lnTo>
                <a:lnTo>
                  <a:pt x="32199" y="1400"/>
                </a:lnTo>
                <a:lnTo>
                  <a:pt x="1400" y="1400"/>
                </a:lnTo>
                <a:close/>
              </a:path>
              <a:path fill="darken" w="33599" h="21600">
                <a:moveTo>
                  <a:pt x="33599" y="0"/>
                </a:moveTo>
                <a:lnTo>
                  <a:pt x="33599" y="21600"/>
                </a:lnTo>
                <a:lnTo>
                  <a:pt x="32199" y="20200"/>
                </a:lnTo>
                <a:lnTo>
                  <a:pt x="32199" y="1400"/>
                </a:lnTo>
                <a:close/>
              </a:path>
              <a:path fill="darkenLess" w="33599" h="21600">
                <a:moveTo>
                  <a:pt x="335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9" y="20200"/>
                </a:lnTo>
                <a:close/>
              </a:path>
              <a:path fill="lighten" w="335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9" h="21600">
                <a:moveTo>
                  <a:pt x="9793" y="7493"/>
                </a:moveTo>
                <a:lnTo>
                  <a:pt x="13300" y="7493"/>
                </a:lnTo>
                <a:lnTo>
                  <a:pt x="13300" y="12828"/>
                </a:lnTo>
                <a:cubicBezTo>
                  <a:pt x="13300" y="13751"/>
                  <a:pt x="14101" y="14482"/>
                  <a:pt x="15137" y="14482"/>
                </a:cubicBezTo>
                <a:lnTo>
                  <a:pt x="16799" y="14482"/>
                </a:lnTo>
                <a:cubicBezTo>
                  <a:pt x="17835" y="14482"/>
                  <a:pt x="18636" y="13751"/>
                  <a:pt x="18636" y="12828"/>
                </a:cubicBezTo>
                <a:lnTo>
                  <a:pt x="18636" y="7493"/>
                </a:lnTo>
                <a:lnTo>
                  <a:pt x="16799" y="7493"/>
                </a:lnTo>
                <a:lnTo>
                  <a:pt x="20307" y="3985"/>
                </a:lnTo>
                <a:lnTo>
                  <a:pt x="23980" y="7493"/>
                </a:lnTo>
                <a:lnTo>
                  <a:pt x="22143" y="7493"/>
                </a:lnTo>
                <a:lnTo>
                  <a:pt x="22143" y="12828"/>
                </a:lnTo>
                <a:cubicBezTo>
                  <a:pt x="22143" y="15596"/>
                  <a:pt x="19567" y="18155"/>
                  <a:pt x="16799" y="18155"/>
                </a:cubicBezTo>
                <a:lnTo>
                  <a:pt x="15137" y="18155"/>
                </a:lnTo>
                <a:cubicBezTo>
                  <a:pt x="12369" y="18155"/>
                  <a:pt x="9793" y="15596"/>
                  <a:pt x="9793" y="12828"/>
                </a:cubicBezTo>
                <a:close/>
              </a:path>
            </a:pathLst>
          </a:custGeom>
          <a:solidFill>
            <a:srgbClr val="ff6699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705720" y="914400"/>
            <a:ext cx="1371600" cy="118440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30481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162920" y="2514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2819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33412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58672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lastslide"/>
            <a:hlinkClick r:id="rId3"/>
          </p:cNvPr>
          <p:cNvSpPr/>
          <p:nvPr/>
        </p:nvSpPr>
        <p:spPr>
          <a:xfrm>
            <a:off x="6858000" y="4800600"/>
            <a:ext cx="167652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  <a:hlinkClick r:id="rId4"/>
          </p:cNvPr>
          <p:cNvSpPr/>
          <p:nvPr/>
        </p:nvSpPr>
        <p:spPr>
          <a:xfrm>
            <a:off x="6858000" y="5334120"/>
            <a:ext cx="167652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lastslide"/>
            <a:hlinkClick r:id="rId5"/>
          </p:cNvPr>
          <p:cNvSpPr/>
          <p:nvPr/>
        </p:nvSpPr>
        <p:spPr>
          <a:xfrm>
            <a:off x="6858000" y="5867280"/>
            <a:ext cx="167652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2920" y="3657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42670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3886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45720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 flipH="1">
            <a:off x="2133360" y="2514600"/>
            <a:ext cx="2895480" cy="1828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  <a:hlinkClick r:id="rId3"/>
          </p:cNvPr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lastslide"/>
          </p:cNvPr>
          <p:cNvSpPr/>
          <p:nvPr/>
        </p:nvSpPr>
        <p:spPr>
          <a:xfrm>
            <a:off x="2666880" y="533412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lastslide"/>
          </p:cNvPr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2666880" y="5867280"/>
            <a:ext cx="1981440" cy="457200"/>
          </a:xfrm>
          <a:custGeom>
            <a:avLst/>
            <a:gdLst>
              <a:gd name="textAreaLeft" fmla="*/ 29520 w 1981440"/>
              <a:gd name="textAreaRight" fmla="*/ 1951920 w 1981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3555" h="21600">
                <a:moveTo>
                  <a:pt x="0" y="0"/>
                </a:moveTo>
                <a:lnTo>
                  <a:pt x="93555" y="0"/>
                </a:lnTo>
                <a:lnTo>
                  <a:pt x="93555" y="21600"/>
                </a:lnTo>
                <a:lnTo>
                  <a:pt x="0" y="21600"/>
                </a:lnTo>
                <a:close/>
              </a:path>
              <a:path fill="lightenLess" w="93555" h="21600">
                <a:moveTo>
                  <a:pt x="0" y="0"/>
                </a:moveTo>
                <a:lnTo>
                  <a:pt x="93555" y="0"/>
                </a:lnTo>
                <a:lnTo>
                  <a:pt x="92155" y="1400"/>
                </a:lnTo>
                <a:lnTo>
                  <a:pt x="1400" y="1400"/>
                </a:lnTo>
                <a:close/>
              </a:path>
              <a:path fill="darken" w="93555" h="21600">
                <a:moveTo>
                  <a:pt x="93555" y="0"/>
                </a:moveTo>
                <a:lnTo>
                  <a:pt x="93555" y="21600"/>
                </a:lnTo>
                <a:lnTo>
                  <a:pt x="92155" y="20200"/>
                </a:lnTo>
                <a:lnTo>
                  <a:pt x="92155" y="1400"/>
                </a:lnTo>
                <a:close/>
              </a:path>
              <a:path fill="darkenLess" w="93555" h="21600">
                <a:moveTo>
                  <a:pt x="935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155" y="20200"/>
                </a:lnTo>
                <a:close/>
              </a:path>
              <a:path fill="lighten" w="935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3657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4191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48769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59436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54100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8862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2819520"/>
            <a:ext cx="990360" cy="457200"/>
          </a:xfrm>
          <a:custGeom>
            <a:avLst/>
            <a:gdLst>
              <a:gd name="textAreaLeft" fmla="*/ 29520 w 990360"/>
              <a:gd name="textAreaRight" fmla="*/ 960840 w 9903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69" h="21600">
                <a:moveTo>
                  <a:pt x="0" y="0"/>
                </a:moveTo>
                <a:lnTo>
                  <a:pt x="46769" y="0"/>
                </a:lnTo>
                <a:lnTo>
                  <a:pt x="46769" y="21600"/>
                </a:lnTo>
                <a:lnTo>
                  <a:pt x="0" y="21600"/>
                </a:lnTo>
                <a:close/>
              </a:path>
              <a:path fill="lightenLess" w="46769" h="21600">
                <a:moveTo>
                  <a:pt x="0" y="0"/>
                </a:moveTo>
                <a:lnTo>
                  <a:pt x="46769" y="0"/>
                </a:lnTo>
                <a:lnTo>
                  <a:pt x="45369" y="1400"/>
                </a:lnTo>
                <a:lnTo>
                  <a:pt x="1400" y="1400"/>
                </a:lnTo>
                <a:close/>
              </a:path>
              <a:path fill="darken" w="46769" h="21600">
                <a:moveTo>
                  <a:pt x="46769" y="0"/>
                </a:moveTo>
                <a:lnTo>
                  <a:pt x="46769" y="21600"/>
                </a:lnTo>
                <a:lnTo>
                  <a:pt x="45369" y="20200"/>
                </a:lnTo>
                <a:lnTo>
                  <a:pt x="45369" y="1400"/>
                </a:lnTo>
                <a:close/>
              </a:path>
              <a:path fill="darkenLess" w="46769" h="21600">
                <a:moveTo>
                  <a:pt x="46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69" y="20200"/>
                </a:lnTo>
                <a:close/>
              </a:path>
              <a:path fill="lighten" w="46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10280" y="25146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10280" y="304812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2438280"/>
            <a:ext cx="312444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62920" y="30481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prop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62920" y="25146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com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2819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5410080"/>
            <a:ext cx="1218960" cy="457200"/>
          </a:xfrm>
          <a:custGeom>
            <a:avLst/>
            <a:gdLst>
              <a:gd name="textAreaLeft" fmla="*/ 29520 w 1218960"/>
              <a:gd name="textAreaRight" fmla="*/ 1189440 w 121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60" h="21600">
                <a:moveTo>
                  <a:pt x="0" y="0"/>
                </a:moveTo>
                <a:lnTo>
                  <a:pt x="57560" y="0"/>
                </a:lnTo>
                <a:lnTo>
                  <a:pt x="57560" y="21600"/>
                </a:lnTo>
                <a:lnTo>
                  <a:pt x="0" y="21600"/>
                </a:lnTo>
                <a:close/>
              </a:path>
              <a:path fill="lightenLess" w="57560" h="21600">
                <a:moveTo>
                  <a:pt x="0" y="0"/>
                </a:moveTo>
                <a:lnTo>
                  <a:pt x="57560" y="0"/>
                </a:lnTo>
                <a:lnTo>
                  <a:pt x="56160" y="1400"/>
                </a:lnTo>
                <a:lnTo>
                  <a:pt x="1400" y="1400"/>
                </a:lnTo>
                <a:close/>
              </a:path>
              <a:path fill="darken" w="57560" h="21600">
                <a:moveTo>
                  <a:pt x="57560" y="0"/>
                </a:moveTo>
                <a:lnTo>
                  <a:pt x="57560" y="21600"/>
                </a:lnTo>
                <a:lnTo>
                  <a:pt x="56160" y="20200"/>
                </a:lnTo>
                <a:lnTo>
                  <a:pt x="56160" y="1400"/>
                </a:lnTo>
                <a:close/>
              </a:path>
              <a:path fill="darkenLess" w="57560" h="21600">
                <a:moveTo>
                  <a:pt x="57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0" y="20200"/>
                </a:lnTo>
                <a:close/>
              </a:path>
              <a:path fill="lighten" w="57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4724280"/>
            <a:ext cx="3352680" cy="457200"/>
          </a:xfrm>
          <a:custGeom>
            <a:avLst/>
            <a:gdLst>
              <a:gd name="textAreaLeft" fmla="*/ 29520 w 3352680"/>
              <a:gd name="textAreaRight" fmla="*/ 3323160 w 3352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8287" h="21600">
                <a:moveTo>
                  <a:pt x="0" y="0"/>
                </a:moveTo>
                <a:lnTo>
                  <a:pt x="158287" y="0"/>
                </a:lnTo>
                <a:lnTo>
                  <a:pt x="158287" y="21600"/>
                </a:lnTo>
                <a:lnTo>
                  <a:pt x="0" y="21600"/>
                </a:lnTo>
                <a:close/>
              </a:path>
              <a:path fill="lightenLess" w="158287" h="21600">
                <a:moveTo>
                  <a:pt x="0" y="0"/>
                </a:moveTo>
                <a:lnTo>
                  <a:pt x="158287" y="0"/>
                </a:lnTo>
                <a:lnTo>
                  <a:pt x="156887" y="1400"/>
                </a:lnTo>
                <a:lnTo>
                  <a:pt x="1400" y="1400"/>
                </a:lnTo>
                <a:close/>
              </a:path>
              <a:path fill="darken" w="158287" h="21600">
                <a:moveTo>
                  <a:pt x="158287" y="0"/>
                </a:moveTo>
                <a:lnTo>
                  <a:pt x="158287" y="21600"/>
                </a:lnTo>
                <a:lnTo>
                  <a:pt x="156887" y="20200"/>
                </a:lnTo>
                <a:lnTo>
                  <a:pt x="156887" y="1400"/>
                </a:lnTo>
                <a:close/>
              </a:path>
              <a:path fill="darkenLess" w="158287" h="21600">
                <a:moveTo>
                  <a:pt x="158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887" y="20200"/>
                </a:lnTo>
                <a:close/>
              </a:path>
              <a:path fill="lighten" w="158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Funcţie în propozi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Subi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586728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Atri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71800" y="533412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Predi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5867280"/>
            <a:ext cx="1904760" cy="457200"/>
          </a:xfrm>
          <a:custGeom>
            <a:avLst/>
            <a:gdLst>
              <a:gd name="textAreaLeft" fmla="*/ 29520 w 1904760"/>
              <a:gd name="textAreaRight" fmla="*/ 1875240 w 1904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89935" h="21600">
                <a:moveTo>
                  <a:pt x="0" y="0"/>
                </a:moveTo>
                <a:lnTo>
                  <a:pt x="89935" y="0"/>
                </a:lnTo>
                <a:lnTo>
                  <a:pt x="89935" y="21600"/>
                </a:lnTo>
                <a:lnTo>
                  <a:pt x="0" y="21600"/>
                </a:lnTo>
                <a:close/>
              </a:path>
              <a:path fill="lightenLess" w="89935" h="21600">
                <a:moveTo>
                  <a:pt x="0" y="0"/>
                </a:moveTo>
                <a:lnTo>
                  <a:pt x="89935" y="0"/>
                </a:lnTo>
                <a:lnTo>
                  <a:pt x="88535" y="1400"/>
                </a:lnTo>
                <a:lnTo>
                  <a:pt x="1400" y="1400"/>
                </a:lnTo>
                <a:close/>
              </a:path>
              <a:path fill="darken" w="89935" h="21600">
                <a:moveTo>
                  <a:pt x="89935" y="0"/>
                </a:moveTo>
                <a:lnTo>
                  <a:pt x="89935" y="21600"/>
                </a:lnTo>
                <a:lnTo>
                  <a:pt x="88535" y="20200"/>
                </a:lnTo>
                <a:lnTo>
                  <a:pt x="88535" y="1400"/>
                </a:lnTo>
                <a:close/>
              </a:path>
              <a:path fill="darkenLess" w="89935" h="21600">
                <a:moveTo>
                  <a:pt x="89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35" y="20200"/>
                </a:lnTo>
                <a:close/>
              </a:path>
              <a:path fill="lighten" w="89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bbe0e3"/>
                </a:solidFill>
                <a:latin typeface="Arial"/>
              </a:rPr>
              <a:t>Co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373392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si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426708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38680" y="3886200"/>
            <a:ext cx="1371600" cy="457200"/>
          </a:xfrm>
          <a:custGeom>
            <a:avLst/>
            <a:gdLst>
              <a:gd name="textAreaLeft" fmla="*/ 29520 w 1371600"/>
              <a:gd name="textAreaRight" fmla="*/ 1342080 w 13716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4766" h="21600">
                <a:moveTo>
                  <a:pt x="0" y="0"/>
                </a:moveTo>
                <a:lnTo>
                  <a:pt x="64766" y="0"/>
                </a:lnTo>
                <a:lnTo>
                  <a:pt x="64766" y="21600"/>
                </a:lnTo>
                <a:lnTo>
                  <a:pt x="0" y="21600"/>
                </a:lnTo>
                <a:close/>
              </a:path>
              <a:path fill="lightenLess" w="64766" h="21600">
                <a:moveTo>
                  <a:pt x="0" y="0"/>
                </a:moveTo>
                <a:lnTo>
                  <a:pt x="64766" y="0"/>
                </a:lnTo>
                <a:lnTo>
                  <a:pt x="63366" y="1400"/>
                </a:lnTo>
                <a:lnTo>
                  <a:pt x="1400" y="1400"/>
                </a:lnTo>
                <a:close/>
              </a:path>
              <a:path fill="darken" w="64766" h="21600">
                <a:moveTo>
                  <a:pt x="64766" y="0"/>
                </a:moveTo>
                <a:lnTo>
                  <a:pt x="64766" y="21600"/>
                </a:lnTo>
                <a:lnTo>
                  <a:pt x="63366" y="20200"/>
                </a:lnTo>
                <a:lnTo>
                  <a:pt x="63366" y="1400"/>
                </a:lnTo>
                <a:close/>
              </a:path>
              <a:path fill="darkenLess" w="64766" h="21600">
                <a:moveTo>
                  <a:pt x="64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6" y="20200"/>
                </a:lnTo>
                <a:close/>
              </a:path>
              <a:path fill="lighten" w="64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umă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487692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masc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541008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emi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59436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eut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 flipH="1">
            <a:off x="3428640" y="2666880"/>
            <a:ext cx="1590840" cy="160020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  <a:hlinkClick r:id="rId3"/>
          </p:cNvPr>
          <p:cNvSpPr/>
          <p:nvPr/>
        </p:nvSpPr>
        <p:spPr>
          <a:xfrm flipH="1">
            <a:off x="2133000" y="2514600"/>
            <a:ext cx="1600200" cy="533520"/>
          </a:xfrm>
          <a:prstGeom prst="wedgeEllipseCallout">
            <a:avLst>
              <a:gd name="adj1" fmla="val -64685"/>
              <a:gd name="adj2" fmla="val 794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  <a:hlinkClick r:id="rId4"/>
          </p:cNvPr>
          <p:cNvSpPr/>
          <p:nvPr/>
        </p:nvSpPr>
        <p:spPr>
          <a:xfrm rot="5400000">
            <a:off x="533160" y="3352680"/>
            <a:ext cx="1295640" cy="838080"/>
          </a:xfrm>
          <a:custGeom>
            <a:avLst/>
            <a:gdLst>
              <a:gd name="textAreaLeft" fmla="*/ 54000 w 1295640"/>
              <a:gd name="textAreaRight" fmla="*/ 1241640 w 1295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3388" h="21600">
                <a:moveTo>
                  <a:pt x="0" y="0"/>
                </a:moveTo>
                <a:lnTo>
                  <a:pt x="33388" y="0"/>
                </a:lnTo>
                <a:lnTo>
                  <a:pt x="33388" y="21600"/>
                </a:lnTo>
                <a:lnTo>
                  <a:pt x="0" y="21600"/>
                </a:lnTo>
                <a:close/>
              </a:path>
              <a:path fill="lightenLess" w="33388" h="21600">
                <a:moveTo>
                  <a:pt x="0" y="0"/>
                </a:moveTo>
                <a:lnTo>
                  <a:pt x="33388" y="0"/>
                </a:lnTo>
                <a:lnTo>
                  <a:pt x="31988" y="1400"/>
                </a:lnTo>
                <a:lnTo>
                  <a:pt x="1400" y="1400"/>
                </a:lnTo>
                <a:close/>
              </a:path>
              <a:path fill="darken" w="33388" h="21600">
                <a:moveTo>
                  <a:pt x="33388" y="0"/>
                </a:moveTo>
                <a:lnTo>
                  <a:pt x="33388" y="21600"/>
                </a:lnTo>
                <a:lnTo>
                  <a:pt x="31988" y="20200"/>
                </a:lnTo>
                <a:lnTo>
                  <a:pt x="31988" y="1400"/>
                </a:lnTo>
                <a:close/>
              </a:path>
              <a:path fill="darkenLess" w="33388" h="21600">
                <a:moveTo>
                  <a:pt x="333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88" y="20200"/>
                </a:lnTo>
                <a:close/>
              </a:path>
              <a:path fill="lighten" w="333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388" h="21600">
                <a:moveTo>
                  <a:pt x="9687" y="3794"/>
                </a:moveTo>
                <a:lnTo>
                  <a:pt x="23700" y="10800"/>
                </a:lnTo>
                <a:lnTo>
                  <a:pt x="96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666880" y="3505320"/>
            <a:ext cx="289584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8000" y="609480"/>
            <a:ext cx="1295280" cy="97308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762120" y="609480"/>
            <a:ext cx="568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Arial"/>
              </a:rPr>
              <a:t>Flori = substanti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2514600"/>
            <a:ext cx="4572000" cy="2590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685800" y="1676520"/>
            <a:ext cx="7467480" cy="60948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00"/>
                </a:solidFill>
                <a:latin typeface="Arial"/>
              </a:rPr>
              <a:t>Flori</a:t>
            </a:r>
            <a:r>
              <a:rPr b="1" lang="ro-RO" sz="2800" spc="-1" strike="noStrike">
                <a:solidFill>
                  <a:srgbClr val="000066"/>
                </a:solidFill>
                <a:latin typeface="Arial"/>
              </a:rPr>
              <a:t> albastre de cicoare răsar lângă d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lastslide"/>
          </p:cNvPr>
          <p:cNvSpPr/>
          <p:nvPr/>
        </p:nvSpPr>
        <p:spPr>
          <a:xfrm>
            <a:off x="762120" y="5257800"/>
            <a:ext cx="7696080" cy="838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= substantiv comun, număr plural, gen feminin, funcţie în propoziţie : subie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362320" y="3352680"/>
            <a:ext cx="1590480" cy="160020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162920" y="3276720"/>
            <a:ext cx="1218960" cy="1218960"/>
          </a:xfrm>
          <a:custGeom>
            <a:avLst/>
            <a:gdLst>
              <a:gd name="textAreaLeft" fmla="*/ 78840 w 1218960"/>
              <a:gd name="textAreaRight" fmla="*/ 1140120 w 12189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2120" y="4648320"/>
            <a:ext cx="1371600" cy="439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4038480" y="2590920"/>
            <a:ext cx="2667240" cy="838080"/>
          </a:xfrm>
          <a:prstGeom prst="wedgeEllipseCallout">
            <a:avLst>
              <a:gd name="adj1" fmla="val -73513"/>
              <a:gd name="adj2" fmla="val 107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ege altă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625760" cy="122076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1219320" y="4572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66"/>
                </a:solidFill>
                <a:latin typeface="Arial"/>
              </a:rPr>
              <a:t>Analizarea părţilor de vorb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F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1905120"/>
            <a:ext cx="1219320" cy="5331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alba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905120"/>
            <a:ext cx="11430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cico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1905120"/>
            <a:ext cx="99072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 u="sng">
                <a:solidFill>
                  <a:srgbClr val="bbe0e3"/>
                </a:solidFill>
                <a:uFillTx/>
                <a:latin typeface="Arial"/>
              </a:rPr>
              <a:t>ră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10280" y="1905120"/>
            <a:ext cx="106704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drum</a:t>
            </a:r>
            <a:r>
              <a:rPr b="1" lang="ro-RO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200400" y="4952880"/>
            <a:ext cx="1295280" cy="1386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flipH="1">
            <a:off x="532800" y="2819520"/>
            <a:ext cx="3276360" cy="1981080"/>
          </a:xfrm>
          <a:prstGeom prst="wedgeEllipseCallout">
            <a:avLst>
              <a:gd name="adj1" fmla="val -34500"/>
              <a:gd name="adj2" fmla="val 7483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2514600"/>
            <a:ext cx="2743200" cy="1981080"/>
          </a:xfrm>
          <a:prstGeom prst="wedgeEllipseCallout">
            <a:avLst>
              <a:gd name="adj1" fmla="val -38481"/>
              <a:gd name="adj2" fmla="val 87819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2971800"/>
            <a:ext cx="1981080" cy="1066680"/>
          </a:xfrm>
          <a:prstGeom prst="rect">
            <a:avLst/>
          </a:prstGeom>
          <a:solidFill>
            <a:srgbClr val="ff99cc"/>
          </a:solidFill>
          <a:ln w="2844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Arată prin ce parte de vorbire este exprimată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lastslide"/>
            <a:hlinkClick r:id="rId3"/>
          </p:cNvPr>
          <p:cNvSpPr/>
          <p:nvPr/>
        </p:nvSpPr>
        <p:spPr>
          <a:xfrm>
            <a:off x="6705720" y="2743200"/>
            <a:ext cx="19047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Substant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  <a:hlinkClick r:id="rId4"/>
          </p:cNvPr>
          <p:cNvSpPr/>
          <p:nvPr/>
        </p:nvSpPr>
        <p:spPr>
          <a:xfrm>
            <a:off x="6934320" y="32767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Adje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lastslide"/>
            <a:hlinkClick r:id="rId5"/>
          </p:cNvPr>
          <p:cNvSpPr/>
          <p:nvPr/>
        </p:nvSpPr>
        <p:spPr>
          <a:xfrm>
            <a:off x="6934320" y="3809880"/>
            <a:ext cx="167616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Pron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  <a:hlinkClick r:id="rId6"/>
          </p:cNvPr>
          <p:cNvSpPr/>
          <p:nvPr/>
        </p:nvSpPr>
        <p:spPr>
          <a:xfrm>
            <a:off x="6934320" y="434340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N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lastslide"/>
            <a:hlinkClick r:id="rId7"/>
          </p:cNvPr>
          <p:cNvSpPr/>
          <p:nvPr/>
        </p:nvSpPr>
        <p:spPr>
          <a:xfrm>
            <a:off x="6934320" y="4876920"/>
            <a:ext cx="1676160" cy="4395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38080" y="2362320"/>
            <a:ext cx="685800" cy="0"/>
          </a:xfrm>
          <a:prstGeom prst="line">
            <a:avLst/>
          </a:prstGeom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14400" y="3276720"/>
            <a:ext cx="2590920" cy="439560"/>
          </a:xfrm>
          <a:prstGeom prst="rect">
            <a:avLst/>
          </a:prstGeom>
          <a:solidFill>
            <a:srgbClr val="00cc00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00"/>
                </a:solidFill>
                <a:latin typeface="Arial"/>
              </a:rPr>
              <a:t>albastre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lastslide"/>
            <a:hlinkClick r:id="rId8"/>
          </p:cNvPr>
          <p:cNvSpPr/>
          <p:nvPr/>
        </p:nvSpPr>
        <p:spPr>
          <a:xfrm>
            <a:off x="5638680" y="5410080"/>
            <a:ext cx="2971800" cy="43992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Arial"/>
              </a:rPr>
              <a:t>Cuvânt de legătur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905120"/>
            <a:ext cx="60948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9920" y="1905120"/>
            <a:ext cx="914400" cy="533160"/>
          </a:xfrm>
          <a:prstGeom prst="rect">
            <a:avLst/>
          </a:prstGeom>
          <a:solidFill>
            <a:srgbClr val="000066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ccff"/>
                </a:solidFill>
                <a:latin typeface="Arial"/>
              </a:rPr>
              <a:t>lâng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6019920"/>
            <a:ext cx="3733560" cy="380880"/>
          </a:xfrm>
          <a:custGeom>
            <a:avLst/>
            <a:gdLst>
              <a:gd name="textAreaLeft" fmla="*/ 24480 w 3733560"/>
              <a:gd name="textAreaRight" fmla="*/ 3709080 w 3733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1554" h="21600">
                <a:moveTo>
                  <a:pt x="0" y="0"/>
                </a:moveTo>
                <a:lnTo>
                  <a:pt x="211554" y="0"/>
                </a:lnTo>
                <a:lnTo>
                  <a:pt x="211554" y="21600"/>
                </a:lnTo>
                <a:lnTo>
                  <a:pt x="0" y="21600"/>
                </a:lnTo>
                <a:close/>
              </a:path>
              <a:path fill="lightenLess" w="211554" h="21600">
                <a:moveTo>
                  <a:pt x="0" y="0"/>
                </a:moveTo>
                <a:lnTo>
                  <a:pt x="211554" y="0"/>
                </a:lnTo>
                <a:lnTo>
                  <a:pt x="210154" y="1400"/>
                </a:lnTo>
                <a:lnTo>
                  <a:pt x="1400" y="1400"/>
                </a:lnTo>
                <a:close/>
              </a:path>
              <a:path fill="darken" w="211554" h="21600">
                <a:moveTo>
                  <a:pt x="211554" y="0"/>
                </a:moveTo>
                <a:lnTo>
                  <a:pt x="211554" y="21600"/>
                </a:lnTo>
                <a:lnTo>
                  <a:pt x="210154" y="20200"/>
                </a:lnTo>
                <a:lnTo>
                  <a:pt x="210154" y="1400"/>
                </a:lnTo>
                <a:close/>
              </a:path>
              <a:path fill="darkenLess" w="211554" h="21600">
                <a:moveTo>
                  <a:pt x="2115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154" y="20200"/>
                </a:lnTo>
                <a:close/>
              </a:path>
              <a:path fill="lighten" w="2115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66"/>
                </a:solidFill>
                <a:latin typeface="Arial"/>
              </a:rPr>
              <a:t>Fă “clic” pe o parte de vorb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3" presetSubtype="6" repeatCount="3000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ef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4T06:38:39Z</dcterms:created>
  <dc:creator>*Paulis</dc:creator>
  <dc:description/>
  <dc:language>en-US</dc:language>
  <cp:lastModifiedBy>*</cp:lastModifiedBy>
  <dcterms:modified xsi:type="dcterms:W3CDTF">2007-07-05T04:28:02Z</dcterms:modified>
  <cp:revision>16</cp:revision>
  <dc:subject>Flori albastre de cicoare apar langa drum.</dc:subject>
  <dc:title>Analiza partilor de vorbire</dc:title>
</cp:coreProperties>
</file>